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62F9-FBA8-475C-8ACE-299AAE9A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71FA-2F36-4463-93D6-8AFB96EE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D09E-8CFB-4309-A3F7-82EDD20E3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D3AA-A738-42B7-97F7-B557FDB0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4433-34FB-4C56-9149-450E67A7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89A9-1395-41B0-B58D-4C9ABBB3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FEE8-A285-40BC-A9A7-83891D0B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365B-E420-4C82-A039-E932EEB6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1291-DECE-4117-AC58-7E0D4716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0A67-BA34-4221-A819-622B4D7F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F1AD-5061-43BB-9F27-56B2093B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C65C-E049-4B92-B8E6-1444FF47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E294-F71F-492F-AD52-3438A8598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676520"/>
            <a:ext cx="7696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2.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quations and Inequalities Involving the Absolute Value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685800" y="3276720"/>
            <a:ext cx="8458200" cy="1812600"/>
            <a:chOff x="685800" y="3276720"/>
            <a:chExt cx="8458200" cy="1812600"/>
          </a:xfrm>
        </p:grpSpPr>
        <p:grpSp>
          <p:nvGrpSpPr>
            <p:cNvPr id="43" name=""/>
            <p:cNvGrpSpPr/>
            <p:nvPr/>
          </p:nvGrpSpPr>
          <p:grpSpPr>
            <a:xfrm>
              <a:off x="762120" y="3353040"/>
              <a:ext cx="8305560" cy="1736280"/>
              <a:chOff x="762120" y="3353040"/>
              <a:chExt cx="8305560" cy="1736280"/>
            </a:xfrm>
          </p:grpSpPr>
          <p:pic>
            <p:nvPicPr>
              <p:cNvPr id="4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3353040"/>
                <a:ext cx="259056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2120" y="4038480"/>
                <a:ext cx="8305560" cy="44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62120" y="4572000"/>
                <a:ext cx="8268840" cy="51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7" name=""/>
            <p:cNvSpPr/>
            <p:nvPr/>
          </p:nvSpPr>
          <p:spPr>
            <a:xfrm>
              <a:off x="685800" y="3276720"/>
              <a:ext cx="845820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990720" y="380880"/>
            <a:ext cx="586728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320" y="4572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rcRect l="0" t="0" r="40265" b="2723"/>
          <a:stretch/>
        </p:blipFill>
        <p:spPr>
          <a:xfrm>
            <a:off x="685800" y="1219320"/>
            <a:ext cx="3505320" cy="685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4343400" y="1309680"/>
            <a:ext cx="1600200" cy="519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685800" y="2006640"/>
            <a:ext cx="4800600" cy="73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838080" y="2971800"/>
                <a:ext cx="4762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lve the inequality: 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≤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609480" y="3602160"/>
            <a:ext cx="5029200" cy="741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320" y="1263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2101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2863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3701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20" y="45403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6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1:58:52Z</dcterms:created>
  <dc:creator>Harry S. Mills</dc:creator>
  <dc:description/>
  <dc:language>en-US</dc:language>
  <cp:lastModifiedBy>Harry S. Mills</cp:lastModifiedBy>
  <dcterms:modified xsi:type="dcterms:W3CDTF">2008-01-21T03:51:53Z</dcterms:modified>
  <cp:revision>12</cp:revision>
  <dc:subject/>
  <dc:title>Slide 1</dc:title>
</cp:coreProperties>
</file>